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1B4-AD98-4280-8CF1-923202AA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348-C4C5-4A3E-BD8D-698327AF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AC3-6EA7-4D22-BA93-933D9BA7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0A9-EB7A-426E-9BF2-2D12CE1A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AC5-63E9-4E03-A343-7F0E7745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C36-E01A-4BE5-92E7-2270BE3F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E96-7522-4C8C-8089-B1A83866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55C-F3C4-45BC-8D0F-D94CC1EF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6AB-FB59-43EA-BAB4-C1894B74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C9F-83B3-488E-8E84-63653B3B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224-E4F8-44F7-BC02-44E3D61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42E-3D19-4EC6-B528-56E16564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4097-6813-464C-98A5-697830859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ensor Etiquet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eat them like a lady should be tre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When picking up your sensors and interfac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reat the sensors and interfaces with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se are expensive pieces of equipment, that need to provide years of future service in the l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t me know if you are having issues with any of the equipment, before making things wo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t the beginning and e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lug in and unplug all sensors and interfaces with the utmost of care.  Don’t leave cables and cords plugged in during storage.  Make sure sensors are clean and functioning prop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uring the investig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n’t set up sensors in a position where they might be damaged.  Damage could be caused by sensors/interfaces falling from precarious positions, sensors/ interfaces landing in water or sensors hit by moving objects.  Keep cords out of the way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6:03:01Z</dcterms:created>
  <dc:creator>default student</dc:creator>
  <dc:description/>
  <dc:language>en-US</dc:language>
  <cp:lastModifiedBy>default student</cp:lastModifiedBy>
  <dcterms:modified xsi:type="dcterms:W3CDTF">2010-08-06T16:13:53Z</dcterms:modified>
  <cp:revision>3</cp:revision>
  <dc:subject/>
  <dc:title>Sensor Etiquette</dc:title>
</cp:coreProperties>
</file>